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BC7-AAB1-468D-A5CB-CA844BA1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A2E-08D0-4CE8-98C8-35FBBA3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5CC4D-ADFA-4887-8451-EA4AF384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99E9A-8C3D-4FA0-A801-ECE60803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ED0CF-D0F3-44A6-B08D-CFF77E55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AB1B-10A5-4EE5-8371-2A126CD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6136D-23FE-4092-85F0-6B5B5945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0C9BB-BC76-4FF3-A777-733D4A9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89754-8B1B-4BB8-B469-7A20E9B1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94B4D-FACD-46AD-90EC-52FEEA8D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4EB6B-AFAE-4D11-99AB-7E0029A6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48635-18B5-4294-9F83-1C032133E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FF0-D9B1-4C61-9BC7-0F5D5416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F9FBD-FCCF-4267-A858-4FEA6C1B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43F5E-F601-4C79-9FC3-683AA548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33D19-1D97-49EA-9B87-6AD7D945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48990-3950-4DDB-B778-55B91B20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8BD17-F427-438B-8227-FD8D23A1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0A014F-2311-4482-AD8F-228EBB66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2C3A7-AE2B-4E44-BEBC-B2E747A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B9D57-E1F5-41EA-A5ED-5735104C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51508-E84F-4873-AD51-DD056432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B3B43-24B9-42A3-977A-F57AD7E9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669-1A1F-4CF6-A3D5-1233AA37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F249E-F0DD-4825-A693-DAC4E409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EDDC6-592A-4F63-B5CC-901F47D2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3E146-E4EF-4C24-9218-C5C499B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D66AE-24D6-4EF1-AF6F-29628273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0B88F-0E02-4E3C-919C-47891C74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7C97F-8526-4FFA-865A-F55CB5BF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3517F-33AF-4E6D-AF5B-D3374A5E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5F544-097D-46B5-8448-8BADAC5E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F784B-EB5B-4549-8EE3-DBECC6A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4D4C-1C21-45C2-808E-435727E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056B-9479-446D-BD61-1580E57C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6953E-5717-43C8-98BC-17AAB700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EA6F9-321B-4011-981A-47DFD12A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6BD42-8EB9-40D1-B107-EA6BE9A3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846C0-2D0B-4407-B6D5-5CE9F1B9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B6F69-BDF8-4A44-A5D3-9E693A9A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40029-7060-4830-94FE-8583A97C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E141D-A132-4CA0-96EB-3D77E4B6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C167C-8ACF-4E32-B139-1ADF1239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86C35-45C9-410F-9A5B-6495CDF3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E3A91-B510-4E0D-97B4-5A1CE24A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153E-6B8B-48E2-BE02-93D16DB9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DAAF5-58FD-49B8-965E-B0C9F2D6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D837E-C753-46D0-86C5-ED5DB634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8CAAF-CE57-496A-9A84-36A846B2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3E100-1116-4F2A-A189-731A023A0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735B8-86A2-4974-99FA-DA14590F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2A2C-33F0-481D-B98A-FB6CE11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8CFF-9BD2-47B3-BC3A-5D454F9B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232-21C8-4302-A92A-FF2CCAEA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4640-4D1F-4705-81A3-94C36CF2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61D3-A5A7-4710-B989-79C89DE3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08E4-4547-40D8-BADB-94381EB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5B9D-E3D8-4E41-BF50-D866ADCB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C86A-F2B5-4485-A6C4-FFC05C6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F967-599A-4E95-8594-D09C2AAB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7DB0-0CA8-49EA-A9F3-54402950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2142-885B-4702-AEF3-10EBBAA4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8474C-4951-40F5-9762-B33E5970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527EF-A2D0-4863-9551-592F57A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3DEEF-4BDF-4618-96CF-1A16849F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BAF52-58DE-433B-9829-3D269595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A723-BA62-44C5-9B50-58E215A8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D5F4-8DA4-4E91-9574-D4880C83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F6F1E-091B-4299-9F65-FAAE09C9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CD49-8A63-44BD-A5F8-34EADF7D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BAB0-5F08-4B7A-8797-C7B24D0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1EBB-AC11-45A7-9287-09AB230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6DEB-50B9-4D90-8B8F-855B7AF1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01F94-6F6B-4250-BFFF-525F042B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6030B-1F9A-4A2B-92AC-94C49B2C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FD6ED-C097-403A-82C6-21FC4956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E046-838B-463D-B4D1-C12B59A2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9059-81A5-46C0-A656-3F6B413B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0D3-816A-4D95-932C-CF9DFB11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D779D-D87F-424C-B95F-B644877B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C2CC-A22E-4850-A8CE-17A128B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BEA48-A6CC-4B48-B919-3211DFF6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D5F3-B66B-4B6E-84FD-FC014E69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BA7E-EFAF-4B92-B961-E86DB866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9B4C3-E4B9-44CF-89E6-A8D716D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9155-E433-4416-A0B8-3B42C8DB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F9681-1573-4561-9CDA-350CD996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AB6C6-35D4-4EBB-A80E-CFB279EC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45F2-A02E-437D-96E0-2D77721B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5E9-0483-42A7-B83C-667F3385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C2B1E-3DDE-47F0-9D64-5E22F780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D0F7-9F17-4273-A27D-BA83CD1D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E0C2F-0D51-413B-977D-8F1A616B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6B509-EF8D-46A9-AA2E-67A8BA52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828AF-668B-4C14-A01E-1A16CA17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B9CE-559B-4133-919B-76D167ED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0278-E206-49AA-B736-701E1C5E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BEC7-FE5C-4F14-83B8-F1C45ECC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18450-BC81-48D6-959A-352882DA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9AE66-67BE-4B53-89B3-24FDFB05C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0D6B-67AD-408E-B94D-C92B673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F6729-CAB9-4809-B15F-F5BA5141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97777-F0F7-4760-9BCD-7738D9DFC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73188-1165-4526-9BD7-0B6D072C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251A9-7360-4094-8306-42246CAD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B623-E0D8-4762-A0B0-200A01B2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4741E-913F-4E42-9C95-AF1D1FE6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EE3BC-C248-4A75-946E-901BC0F4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4EB33-EF1C-4294-BE6D-D5B995F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25BE-06EE-43C8-9599-5D2267E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DB24E-AFF7-4299-BE4C-BAA8BF86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E90-0423-4F12-9032-CDD76CE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64BFE-1D91-44B8-B705-372DFF7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17D2-12DD-44F4-94ED-F8A5F9A8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EAB2A-E6A4-43B5-B5FB-AAE16EFA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CBD49-0B88-472E-A2A1-E1330DA3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CC925-4FCB-4159-83AC-E5E3D20F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48008-EC38-4AE9-B8B8-C33426C4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11B6D-A12F-4AAE-8A5E-3E1169CF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05936-2006-4082-AB4C-D54D824D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85CF-1449-4548-8FB4-87D86A24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B22F9-A4AB-4455-8733-63AADE7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B21-D75A-4DC0-AD98-8887A65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22DBD-98E7-4B71-8F16-C2797BAA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1FFF-5847-412A-A27A-2F93747E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CB812-AE3B-42BA-A938-603B680F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C0C83-33B0-4AFC-92C7-B5B7717BF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69CD-59A0-4B49-BB64-14CCB62E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7AB5A-A52A-4A33-AECB-9FE91DE6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4988E-2354-411B-AE79-147A0CD4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64FD-27EA-47A6-91BE-05121EB4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F25FD-6B44-4372-9D6C-888BF061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300F2-F4F4-4E26-BBA4-89C2AE72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CDE7-09B9-44CA-8CD1-95B0BDB5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4E9BF-1510-4F75-A8E5-463B6A29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1AC93-4911-40D0-9BE4-E6D84D99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B3AD4-2BE4-4738-8C22-FEE6ED3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00978-D395-44E7-A81E-F9C76CDE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2A8E7-CEE1-4C77-B8BB-807DB1D2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39B9A-8096-48CC-9510-C077DEFD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CE4A7-715B-48D0-8A42-987D8A85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CF05D-75CE-4358-BE0E-652A0DCC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5D7B0-A808-4300-A78D-7B3F20B8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9E33D-F60E-4604-A7ED-A769E1D8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66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662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662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662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662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663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663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11C8-D122-4130-96C4-D2E1E025DCC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FB3D-7936-4215-BEBC-2536E7CD648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7374-630E-47AD-B5F4-F808F8E7CE0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E407-B2A1-4FFE-B0B4-CAEAA3E71BA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764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2765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765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765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765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765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2765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0912-E438-4CEB-9E56-CC0AF25E31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7ACE-D252-43EA-BCBB-B2CD1AE1371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1E88-5C2C-4E1F-9C20-9925CBF2988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D80-5AD5-4750-8401-028BF84EA85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D283-6EAF-4391-A064-1626D7459D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FFDD-0C07-46CE-B548-1FB848B4056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5CD-3449-4316-98F0-7A2C920E344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C7C0-CD2C-4947-88D3-A9AF8341FB3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3076"/>
          <p:cNvSpPr/>
          <p:nvPr/>
        </p:nvSpPr>
        <p:spPr>
          <a:xfrm>
            <a:off x="1357920" y="593640"/>
            <a:ext cx="20091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花 牛 歌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徐志摩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7413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68360" y="259920"/>
            <a:ext cx="5986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7411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17412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8437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70000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8435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18436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淘气的花牛在草地里发生了很多有趣的事？聪明的你知道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 9219" descr="u=688488195,351800593&amp;fm=0&amp;gp=0"/>
          <p:cNvPicPr/>
          <p:nvPr/>
        </p:nvPicPr>
        <p:blipFill>
          <a:blip r:embed="rId1"/>
          <a:stretch/>
        </p:blipFill>
        <p:spPr>
          <a:xfrm>
            <a:off x="3635280" y="3400560"/>
            <a:ext cx="4824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20481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68360" y="259920"/>
            <a:ext cx="5986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0484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文本框 20485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压扁了一穗剪秋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4099" descr="2136bb0c-24544c"/>
          <p:cNvPicPr/>
          <p:nvPr/>
        </p:nvPicPr>
        <p:blipFill>
          <a:blip r:embed="rId1"/>
          <a:stretch/>
        </p:blipFill>
        <p:spPr>
          <a:xfrm>
            <a:off x="291636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07" descr="200572013142630430"/>
          <p:cNvPicPr/>
          <p:nvPr/>
        </p:nvPicPr>
        <p:blipFill>
          <a:blip r:embed="rId1"/>
          <a:stretch/>
        </p:blipFill>
        <p:spPr>
          <a:xfrm>
            <a:off x="0" y="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0" descr="13355110R-0"/>
          <p:cNvPicPr/>
          <p:nvPr/>
        </p:nvPicPr>
        <p:blipFill>
          <a:blip r:embed="rId2"/>
          <a:stretch/>
        </p:blipFill>
        <p:spPr>
          <a:xfrm>
            <a:off x="4648320" y="2924280"/>
            <a:ext cx="4495680" cy="42163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08" descr="05300000471080125267195692523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09" descr="C81628166"/>
          <p:cNvPicPr/>
          <p:nvPr/>
        </p:nvPicPr>
        <p:blipFill>
          <a:blip r:embed="rId4"/>
          <a:stretch/>
        </p:blipFill>
        <p:spPr>
          <a:xfrm>
            <a:off x="0" y="3429000"/>
            <a:ext cx="4716360" cy="364500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21511"/>
          <p:cNvSpPr/>
          <p:nvPr/>
        </p:nvSpPr>
        <p:spPr>
          <a:xfrm>
            <a:off x="3348000" y="2852640"/>
            <a:ext cx="324000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剪 秋 萝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眠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白云霸占了半个天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147" descr="t6aul2dq"/>
          <p:cNvPicPr/>
          <p:nvPr/>
        </p:nvPicPr>
        <p:blipFill>
          <a:blip r:embed="rId1"/>
          <a:stretch/>
        </p:blipFill>
        <p:spPr>
          <a:xfrm>
            <a:off x="1547640" y="1989000"/>
            <a:ext cx="7236000" cy="4869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尾巴甩得溜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7171" descr="042589c7-84545c"/>
          <p:cNvPicPr/>
          <p:nvPr/>
        </p:nvPicPr>
        <p:blipFill>
          <a:blip r:embed="rId1"/>
          <a:stretch/>
        </p:blipFill>
        <p:spPr>
          <a:xfrm>
            <a:off x="1008000" y="620640"/>
            <a:ext cx="8136000" cy="6237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做梦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太阳偷渡了西山的青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8199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11280" y="259920"/>
            <a:ext cx="627552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8197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8198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15365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1092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5363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文本框 15364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16389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33964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6387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16388"/>
          <p:cNvSpPr/>
          <p:nvPr/>
        </p:nvSpPr>
        <p:spPr>
          <a:xfrm>
            <a:off x="84816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8:33:18Z</dcterms:created>
  <dc:creator/>
  <dc:description/>
  <dc:language>en-US</dc:language>
  <cp:lastModifiedBy>万润仪器贸易公司</cp:lastModifiedBy>
  <dcterms:modified xsi:type="dcterms:W3CDTF">2020-08-24T03:32:3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